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2FEDC-37B0-477C-AD77-1F9228F82E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1778C-6F20-4F3C-A9EF-560AFD78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14DCF-9767-4C02-99B8-83FD607C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3ACBC-BC77-4E5F-B2A3-3693DCAADB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FB76A-9C05-46E3-84CE-9F6720DE02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F2C65-EE45-4705-8405-6ADEE553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8A546-C22B-4E12-8BBB-919182B1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FEADD-97C8-40DD-8908-C7AD9249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5F049-3A6E-41F8-9A22-02DBDE51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427D9-E609-4B4F-8FBD-F7AD0F71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D844F-C252-412B-B018-C04DEC3A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58F7A-6F45-48E1-9C37-4EDAB945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30600-0B6A-4920-8733-801F3117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E2B3C-6FBD-407D-BEC6-C0CB9CE3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32C53-1BD1-43FC-B823-6D4C7601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AEE4C-5E9E-4E7F-A941-45AAF170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7AEBB-E39C-4857-B3DF-214CF0AED1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E6C5-673A-46F8-90CE-428722F40D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5997-55B0-4CCC-9CB9-6326D7D0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8E59-3CE9-4C68-A57E-3C25E57E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C5B7-03D8-4BCC-B844-948CEC84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2E15-3D4C-4888-8BDA-4741B63E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03B39-941E-4C43-AB99-2652016D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BE4B-A647-49B8-AFCB-870A63D4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E22A-5E8A-431A-A353-E8AA31DC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A12B-80F7-4156-80BF-88007352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E154-F544-455D-8C7C-1408A544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12B2-F0CD-4965-9AC0-AB7CF4A2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EBD9-A8A6-4C19-BB12-C98F2E95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ACD4-460B-479D-AC4D-E9D41C7E3C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60E6B-BE1D-42A0-A8B9-824243A9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B139A-731F-4271-B4D1-0BA9F2C2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376A6-31B8-47A1-BB3D-782D61D5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83BBF-CA50-4B20-821A-F325B9BC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7B699-7DDC-442C-870C-3568B496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5C988-1C6E-480E-861D-83FF1898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8669B-BA9D-47DD-BA15-3F657292D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E7589-A14A-4D6D-8D82-02452845B0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5B002-B928-4FE6-9D19-355BD70447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2" descr="illettrisme_couv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043520" y="330660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3"/>
          <p:cNvSpPr/>
          <p:nvPr/>
        </p:nvSpPr>
        <p:spPr>
          <a:xfrm>
            <a:off x="7786800" y="6458040"/>
            <a:ext cx="11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LA DEMARCHE DES ACTIONS EDUCATIVES FAMILIALES</a:t>
            </a: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ENSIBILISER LES PROFESSIONNEL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QUOI PARLE-T-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C367E9-9C72-4F0B-A027-1A3E26497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Illettrisme : de quoi parle-t-on ?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’illettr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 adulte qui a été scolarisé en France et qui n’a pas acquis une maîtrise suffisante des compétences de base pour être autonome dans les situations simples de la vie cour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’analphabét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n’a jamais (ou très peu) été scolarisée, en France ou aill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e Français langue étrangère (FLE)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a été scolarisée dans un autre pays et qui ne maîtrise pas la langue frança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021DA-E9B7-4BE2-B847-DC9671BBDE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alibri"/>
              </a:rPr>
              <a:t>Combien de personnes concernées ?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8760" y="2491920"/>
            <a:ext cx="52610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2,5 millions de personne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ésultats enquête IVQ – INSEE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4,4 % des jeunes de 17 an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 (métropole et DOM)</a:t>
            </a:r>
            <a:r>
              <a:rPr b="0" lang="fr-FR" sz="2000" spc="-1" strike="noStrike">
                <a:solidFill>
                  <a:srgbClr val="1f497d"/>
                </a:solidFill>
                <a:latin typeface="Calibri"/>
              </a:rPr>
              <a:t>, soit 32 267 jeu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Journée Défense et Citoyenneté 20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4" descr="couv_brochure"/>
          <p:cNvPicPr/>
          <p:nvPr/>
        </p:nvPicPr>
        <p:blipFill>
          <a:blip r:embed="rId1"/>
          <a:stretch/>
        </p:blipFill>
        <p:spPr>
          <a:xfrm>
            <a:off x="5692680" y="1600200"/>
            <a:ext cx="314352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1D989-2A81-40E1-8F55-C529C8A2B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pourquoi ?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640" y="1829880"/>
            <a:ext cx="856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mi les 2,5 millions de personnes confrontées à l’illettrisme en France, on compte de nombreux parents et grands-parent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ont beaucoup de difficultés à accompagner la scolarité de leurs enfants (et petits-enfants), à leur transmettre le goût de la lecture, l’appétit d’apprendre, le plaisir des liv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sont gênés dans le contact, la communication et les relations avec les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rencontrent des difficultés pour s’insérer socialement et professionnel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B8690-4E78-4E70-A062-151E3C96B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s enjeux au service de la réussite éducative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nsibiliser les professionnels intervenant en milieu « populaire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la problématique de l’illettrisme et à ses conséquences en matière de parenta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ener les professionnels 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juster leurs pratiqu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travailler avec c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tre les parents en confiance et les mobiliser sur les apprentissages « de base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iliter leur autonomie et leur propre développement personn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er à la prévention des difficultés de leurs enf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3FFFA-94C7-455A-8BCC-10579B599C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7413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n distingue trois « paliers » constitutifs de la démarche AEF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Premier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sensibilisation / formation des acteurs professionnels aux thématiques liées à l’illettrisme et particulièrement à la parentalité en situation d’illettr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eux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orientation vers une réponse de formation dite de « droit commun 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Trois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réponse spécifique de formation à visée parenta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3"/>
          <p:cNvSpPr/>
          <p:nvPr/>
        </p:nvSpPr>
        <p:spPr>
          <a:xfrm>
            <a:off x="225360" y="139680"/>
            <a:ext cx="87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S’inscrire dans la démarche AEF: c’est possible quel que soit le point de départ, ça se construit étape après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173EA-131A-473E-9086-2ECB08054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 : « La démarche familles » de l’AFEV Nant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orientation vers une réponse de formation dite de « droit commun» (réponse de palie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bilisation des parents dont les enfants participent au dispositif « Accompagnement vers la lectur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 manifestations durant l’année scolaire : Noël + 3 ateliers contes + 1 spectacle de contes avec une compagnie de théâ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contres entre les acteurs de l’AFEV des Hauts de Seine et les parents, à l’occasion de la distribution en porte-à-porte, chaque mois, du Journal des Famille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(Les parents potentiellement en situation d’illettrisme peuvent ensuite être accompagnés dans une démarche de form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23106-9F66-42B6-9A72-0BC24B67C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 </a:t>
            </a:r>
            <a:br>
              <a:rPr sz="3600"/>
            </a:b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’action du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RETA de Châlons-sur-Saô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réponse spécifique de formation à visée parentale (réponse de palier 3), autour de trois dimension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action de prévention de l’illettrisme dès l’enf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accompagnement social et culturel des parents (place de chacun des parents, confiance dans leur capacité éducative, relation parents/enfants, é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éveloppement des compétences clés des adult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r le film réalisé au GR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19A2A-008A-4AE3-9EE1-1B9C51A3A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8:01:17Z</dcterms:created>
  <dc:creator>Bruno LEFEBVRE</dc:creator>
  <dc:description/>
  <dc:language>en-US</dc:language>
  <cp:lastModifiedBy>Utilisateur</cp:lastModifiedBy>
  <dcterms:modified xsi:type="dcterms:W3CDTF">2013-11-08T18:06:55Z</dcterms:modified>
  <cp:revision>28</cp:revision>
  <dc:subject/>
  <dc:title>Présentation PowerPoint</dc:title>
</cp:coreProperties>
</file>